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4CAF-6E40-4479-8330-B9661C784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A3E3-00F4-4FC2-BC9C-63B91CD41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C1EA-BF32-483C-B1E4-5F9C5FA2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CC85-8F37-4AD5-8B15-C3D0A454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EE8F-96B0-4BD2-8170-4C9816CE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5AAF-B342-489A-BEFA-3CC44450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F8FE-4A7E-4D2C-9699-CB9AF7FF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2A4D-9E52-494C-B53D-6D91DD7F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160D-B709-4CC4-91CE-7E93F7FC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300-E169-4B53-A1B7-E3A7A680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DDD-9516-4E98-B77F-7EEDD465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AABA-1BD1-4367-84A8-5F9D7D0F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F38-3577-43BD-AE61-78378B9FD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F5F-2605-4B79-BFFC-C4282333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D2DA-E301-4D34-ABE8-B9A3D7A3F7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Operational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Framework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45" name="Content Placeholder 3" descr=""/>
          <p:cNvPicPr/>
          <p:nvPr/>
        </p:nvPicPr>
        <p:blipFill>
          <a:blip r:embed="rId1"/>
          <a:stretch/>
        </p:blipFill>
        <p:spPr>
          <a:xfrm>
            <a:off x="1069920" y="1600200"/>
            <a:ext cx="7004160" cy="45259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1069920" y="6172200"/>
            <a:ext cx="5483160" cy="4572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World Health Organization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caling 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rcRect l="15176" t="23270" r="-378" b="0"/>
          <a:stretch/>
        </p:blipFill>
        <p:spPr>
          <a:xfrm>
            <a:off x="762120" y="1488960"/>
            <a:ext cx="70866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perational issues  - general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Gene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caling up or ou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to involve local (especially district ag) institu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itoring data collection (DCFs, Success stori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change visi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FAKA presence – new/old a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perational issues - expans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Expan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FAKA presence (old and new regio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partnership (some already in new areas, others no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 entry (new are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nnaissance visit and buy-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l re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5-07-09T05:08:44Z</dcterms:modified>
  <cp:revision>21</cp:revision>
  <dc:subject/>
  <dc:title>PowerPoint Presentation</dc:title>
</cp:coreProperties>
</file>